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519E-9EFA-4A68-BCA9-AAA80970E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D8A7-526A-4E9F-896F-C0FB78423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8D8-7056-4D76-ABBE-6A9EFE0C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9EB-C6F7-4FA5-AA36-7973ED60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20C-266F-493D-AC9B-B691A267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0D6-459A-4968-9312-863254BF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ECF-1D9E-4F00-902F-26C19582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AFD-9B56-4786-81F1-E317469C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42F-0B76-42FB-9AA4-A33DC697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869-0814-4B4E-88CB-153A746F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44F1-B76F-492E-B645-BB1D7D05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507-A53A-4805-A5B2-0111EB07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36F-C2F6-4986-9CB0-9198D51B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567-532B-409F-9350-B49B4787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6F86-6B52-4291-BA1C-23CA8EEED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4_04t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4 Per capita energy consumption is highest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4 Per capita energy consumption is highest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4_06t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5 Nuclear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most common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a high cost relative to other energ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s a renewabl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s yet to have significant environment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as first produced in the late nineteen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5 Nuclear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most common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Has a high cost relative to other energ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s a renewabl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s yet to have significant environment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as first produced in the late nineteen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6 Of the following regions or countries, which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 source of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6 Of the following regions or countries, which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 source of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4_12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7 The temperature of the atmosphere wa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8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1 The greatest proportion of energy use in the United States invo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ydroelectric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uclea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tural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etrole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7 The temperature of the atmosphere wa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8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4_13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8 Acid precipit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global pheno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ost prevalent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related to prevailing w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ost common near industri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8 Acid precipit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global pheno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ost prevalent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related to prevailing w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Most common near industri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4_14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9 Which type of renewable energy produces the most air pol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uclear 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ydroelectr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io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9 Which type of renewable energy produces the most air pol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uclear 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ydroelectr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Bio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10 Biodiversity in the tropic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creased by d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function of numbers of speci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function of distribution of speci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creasing due to species exti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hifting cul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10 Biodiversity in the tropic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creased by d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function of numbers of speci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function of distribution of speci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Decreasing due to species exti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hifting cul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1 The greatest proportion of energy use in the United States invo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ydroelectric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uclea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tural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Petrole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4_01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2 Fossil fu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ssentially infinite in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istributed relatively evenly around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source of renewabl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t a significant source of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2 Fossil fu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ssentially infinite in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istributed relatively evenly around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source of renewabl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t a significant source of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4_02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3 Which country or region produces the smallest amount of petrole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3 Which country or region produces the smallest amount of petrole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3:25:56Z</dcterms:modified>
  <cp:revision>79</cp:revision>
  <dc:subject/>
  <dc:title>CRS Chapter 4</dc:title>
</cp:coreProperties>
</file>